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2.wmf" ContentType="image/x-wmf"/>
  <Override PartName="/ppt/media/image25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1F6-D06D-4021-AA38-C734C5BC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378-A928-453F-B1E8-7190CDC7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C12-7F5B-42A9-9075-87B37D61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014-7826-4970-97A2-3A95395F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5EB-EC93-46D4-8D5C-798DB7A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C20-7C2F-4552-B453-3078F0B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BB9-DF1A-4659-BED1-9103022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4DF-592B-49E9-88D8-0E6213E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40C-7A47-4499-9BB2-00D33F98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F9B-77F9-4B9B-B224-719368D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8BF-4C82-42CD-8448-B996CB4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E7B-BDDE-4E38-BE18-4BA53B9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7D46-026E-412F-BC8A-E57894D0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cn.net/ca/cap/ataoqi053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artcn.net/ca/cap/ataoqi028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artcn.net/ca/cap/ataoqi032.jp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ISTORIC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438200" cy="219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6765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Gravesite in Henan"/>
          <p:cNvPicPr/>
          <p:nvPr/>
        </p:nvPicPr>
        <p:blipFill>
          <a:blip r:embed="rId4"/>
          <a:stretch/>
        </p:blipFill>
        <p:spPr>
          <a:xfrm>
            <a:off x="2666880" y="1447920"/>
            <a:ext cx="3733920" cy="27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4724280"/>
            <a:ext cx="141768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1676520"/>
            <a:ext cx="1714320" cy="130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2971800" y="4343400"/>
            <a:ext cx="32767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ins of Yin date back to the Shang dynasty. A number of tombs were discovered at this site, but only one, that of Fuo Hao, was undistur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Ruins and museum of Yin Xu"/>
          <p:cNvPicPr/>
          <p:nvPr/>
        </p:nvPicPr>
        <p:blipFill>
          <a:blip r:embed="rId1"/>
          <a:stretch/>
        </p:blipFill>
        <p:spPr>
          <a:xfrm>
            <a:off x="990720" y="1828800"/>
            <a:ext cx="70866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1120" y="685440"/>
            <a:ext cx="3505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de carving discovered in Fuo Hao's tomb. Fuo Hao was a wife of King Wu Ding during the Shang dynasty and is reported to have served as a military leader. Her tomb was untouched when discovered in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Jade carving discovered in Shang dynasty tomb"/>
          <p:cNvPicPr/>
          <p:nvPr/>
        </p:nvPicPr>
        <p:blipFill>
          <a:blip r:embed="rId1"/>
          <a:stretch/>
        </p:blipFill>
        <p:spPr>
          <a:xfrm>
            <a:off x="457200" y="685800"/>
            <a:ext cx="4324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of human sacrifice is common in elite tombs of the Shang dynas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Skeletons at Shang dynasty sacrificial site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bron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wine vessel, shaped in the form of an elephant with uplifted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hang dynasty bronze vessel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inese archeologist works at a newly discovered pit of chariots and horses in the ruins of Yin. Five of the seven pits are arranged in a line, with chariots and horses facing eastwar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Chariot and horse remains at Yin ruins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6002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0-105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4382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On the Huang He River in the North China 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956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 A series of rulers from the sam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562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 From the tombs and artifacts we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 The Shang dynasty is important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733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HOU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30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Yung Cheng (Ceremonial Bell)"/>
          <p:cNvPicPr/>
          <p:nvPr/>
        </p:nvPicPr>
        <p:blipFill>
          <a:blip r:embed="rId2"/>
          <a:stretch/>
        </p:blipFill>
        <p:spPr>
          <a:xfrm>
            <a:off x="4038480" y="1981080"/>
            <a:ext cx="1916280" cy="3133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Image Detail"/>
          <p:cNvPicPr/>
          <p:nvPr/>
        </p:nvPicPr>
        <p:blipFill>
          <a:blip r:embed="rId3"/>
          <a:stretch/>
        </p:blipFill>
        <p:spPr>
          <a:xfrm>
            <a:off x="6095880" y="1905120"/>
            <a:ext cx="2743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d in the Wei Valley on the                    Huang H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752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n 1050 BCE Wu the Martial and the Zhou                                                                         conquered the S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124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hina’s longest lasti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114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an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sonal power (heaven) worshiped by the Zhou that demanded right behavior and goo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6386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date of Heav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getting heaven’s (tian) support if you rul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1511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3880" y="15228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ed all of the land and granted Nobles complete control of the land given them, protects and defends the land and people, govern in the interest of th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676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 the land given to him from the king which consisted of a walled town and the farms around it, must give the king a portion of what the peasants produce from his land, must send the king soldiers in times of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6576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the farmland and give the noble some of what they produce/make, are the sold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133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2249280" cy="159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2590560" cy="126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2259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228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 Dialects are different forms of the sam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 Communication from region to region was difficult because people could not always understand each other when they sp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95680" y="5334120"/>
            <a:ext cx="1816200" cy="1344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0958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10,000 B.C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farmers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houses built partially underground with plastered floors and roofs supported by wooden b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painted pott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geometric designs on it   They used a kiln but no potter’s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808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) Expanded the use of writing so no matter how a word was pronounced in the different regions of China, its written form would be the same and understood.  This allows China’s culture to grow and sp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36273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angsh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35200" cy="27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23524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2286000" y="327672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000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near the Huang He (Yellow) River in northeast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that raised cattle, sheep, pigs, and dogs and grew wheat and m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ettled in southern China to grow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arose to complete projects to contro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lack pottery using a kiln and a potter’s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harvest silk from silkworms to weave fabric which became a major export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gs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95732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629400" y="2438280"/>
            <a:ext cx="179856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of the Prehistoric settlements around 2000 B.C.E. (ruled for about 30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led near the Huang He (Yellow) River in north central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bout them from legends and eventually what archeologists hav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bronze weapon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po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s communicated with spirits for help an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by the Shang, China’s first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eventually become China’s first dynasty when and if more evidence is found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X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70200" cy="274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373392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h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24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hang dynasty tortoise shell with pictographs. The Shang dynasty is the earliest Chinese dynasty supported by archeological and written evidenc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Shang pictographs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8:43:50Z</dcterms:created>
  <dc:creator>gehadde</dc:creator>
  <dc:description/>
  <dc:language>en-US</dc:language>
  <cp:lastModifiedBy>gehadde</cp:lastModifiedBy>
  <dcterms:modified xsi:type="dcterms:W3CDTF">2012-03-11T10:01:27Z</dcterms:modified>
  <cp:revision>19</cp:revision>
  <dc:subject/>
  <dc:title>SHANG DYNASTY</dc:title>
</cp:coreProperties>
</file>